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3680BA1-432C-40A4-B565-C9192DBCDC9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270A5B4-8170-4B76-8BA6-CFDF9ED888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7" descr="opi_logo_2color.jpg"/>
          <p:cNvPicPr/>
          <p:nvPr/>
        </p:nvPicPr>
        <p:blipFill>
          <a:blip r:embed="rId2"/>
          <a:stretch/>
        </p:blipFill>
        <p:spPr>
          <a:xfrm>
            <a:off x="96840" y="25560"/>
            <a:ext cx="1266840" cy="390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C68391-96EC-412E-B8A9-EA8C15573F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nd o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A70BE5A-4753-45E6-9FFD-E5FA3760CE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ges add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5B9AF3-9C85-4D94-880E-FFF7CC0316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B4E30-8825-4635-BD0D-A206D0195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23305-8738-4F6F-B53F-E499C4C76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D25DE-6022-419C-9D9A-8F4053BD3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903A9-59E8-4EAE-AE28-4968FDEF9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CBD31-6471-4367-BF68-819662910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4C9E1-2CB2-4757-994D-15A397114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ED2BE-698F-4E1A-BAA7-3A4B6C435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9CC19-8DEC-48F7-8237-D6703D808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174B1-61D0-4AF1-898B-7BC32C79E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5F6C5-A0E1-44F9-9646-9E0B51BEF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A924F-AECC-4244-9CCA-FCDE34141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D2382-B01D-4A05-AE24-7A73987C8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e6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1E97D2E-40F9-48DE-82BD-2A090F51F8D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90FDB3-7F94-446E-83DE-FB6E3661A5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6" descr="opi_logo_2color.jpg"/>
          <p:cNvPicPr/>
          <p:nvPr/>
        </p:nvPicPr>
        <p:blipFill>
          <a:blip r:embed="rId2"/>
          <a:stretch/>
        </p:blipFill>
        <p:spPr>
          <a:xfrm>
            <a:off x="4084560" y="6369120"/>
            <a:ext cx="1139760" cy="352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wikispaces.com/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mailto:kgoyins@mt.gov" TargetMode="External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08080"/>
            <a:ext cx="7772400" cy="173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Using Technology to Promote Literac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23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898989"/>
                </a:solidFill>
                <a:latin typeface="Calibri"/>
              </a:rPr>
              <a:t>Montana State Reading Conferen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898989"/>
                </a:solidFill>
                <a:latin typeface="Calibri"/>
              </a:rPr>
              <a:t>October 20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898989"/>
                </a:solidFill>
                <a:latin typeface="Calibri"/>
              </a:rPr>
              <a:t>Kris Goyi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3" descr="msrc.PNG"/>
          <p:cNvPicPr/>
          <p:nvPr/>
        </p:nvPicPr>
        <p:blipFill>
          <a:blip r:embed="rId1"/>
          <a:stretch/>
        </p:blipFill>
        <p:spPr>
          <a:xfrm>
            <a:off x="3286080" y="1938240"/>
            <a:ext cx="2571840" cy="29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wikispaces.com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2"/>
          <a:stretch/>
        </p:blipFill>
        <p:spPr>
          <a:xfrm>
            <a:off x="322200" y="1417680"/>
            <a:ext cx="8182080" cy="4708440"/>
          </a:xfrm>
          <a:prstGeom prst="rect">
            <a:avLst/>
          </a:prstGeom>
          <a:ln w="0">
            <a:noFill/>
          </a:ln>
        </p:spPr>
      </p:pic>
      <p:sp>
        <p:nvSpPr>
          <p:cNvPr id="55" name="Right Arrow 5"/>
          <p:cNvSpPr/>
          <p:nvPr/>
        </p:nvSpPr>
        <p:spPr>
          <a:xfrm>
            <a:off x="5186520" y="2090880"/>
            <a:ext cx="1161720" cy="626760"/>
          </a:xfrm>
          <a:prstGeom prst="rightArrow">
            <a:avLst>
              <a:gd name="adj1" fmla="val 50000"/>
              <a:gd name="adj2" fmla="val 49985"/>
            </a:avLst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eft Arrow 6"/>
          <p:cNvSpPr/>
          <p:nvPr/>
        </p:nvSpPr>
        <p:spPr>
          <a:xfrm rot="7880400">
            <a:off x="5028120" y="3512160"/>
            <a:ext cx="1019160" cy="744480"/>
          </a:xfrm>
          <a:prstGeom prst="leftArrow">
            <a:avLst>
              <a:gd name="adj1" fmla="val 50000"/>
              <a:gd name="adj2" fmla="val 50017"/>
            </a:avLst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8322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User Name: ImaRead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ssword: love2rea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652320" y="1600200"/>
            <a:ext cx="78393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457200" y="428760"/>
            <a:ext cx="8229600" cy="5697360"/>
          </a:xfrm>
          <a:prstGeom prst="rect">
            <a:avLst/>
          </a:prstGeom>
          <a:ln w="0">
            <a:noFill/>
          </a:ln>
        </p:spPr>
      </p:pic>
      <p:sp>
        <p:nvSpPr>
          <p:cNvPr id="60" name="Up Arrow 4"/>
          <p:cNvSpPr/>
          <p:nvPr/>
        </p:nvSpPr>
        <p:spPr>
          <a:xfrm>
            <a:off x="731880" y="3867120"/>
            <a:ext cx="534960" cy="1017720"/>
          </a:xfrm>
          <a:prstGeom prst="up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3" descr=""/>
          <p:cNvPicPr/>
          <p:nvPr/>
        </p:nvPicPr>
        <p:blipFill>
          <a:blip r:embed="rId1"/>
          <a:stretch/>
        </p:blipFill>
        <p:spPr>
          <a:xfrm>
            <a:off x="222120" y="274680"/>
            <a:ext cx="855684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ttp://www.zooburst.com/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457200" y="1641600"/>
            <a:ext cx="8229600" cy="44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teractive Romeo and Julie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http://www.canadianshakespeares.ca/rjfolio.cf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1639800" y="2084400"/>
            <a:ext cx="5523120" cy="38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ris Goyi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406)444-072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kgoyins@mt.gov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4" descr="j0336396.gif"/>
          <p:cNvPicPr/>
          <p:nvPr/>
        </p:nvPicPr>
        <p:blipFill>
          <a:blip r:embed="rId2"/>
          <a:stretch/>
        </p:blipFill>
        <p:spPr>
          <a:xfrm>
            <a:off x="3735360" y="4116240"/>
            <a:ext cx="1141560" cy="11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5T14:22:14Z</dcterms:created>
  <dc:creator>cp8175</dc:creator>
  <dc:description/>
  <dc:language>en-US</dc:language>
  <cp:lastModifiedBy>cp8175</cp:lastModifiedBy>
  <dcterms:modified xsi:type="dcterms:W3CDTF">2010-10-15T21:50:08Z</dcterms:modified>
  <cp:revision>27</cp:revision>
  <dc:subject/>
  <dc:title>Using Technology to Promote Literacy</dc:title>
</cp:coreProperties>
</file>